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C527-AB0B-45A8-BF5D-1143994F901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755A-2D18-4F6F-9526-B42FCF11CC5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569C-6297-469B-B458-6ACEC55F5DC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989F-F4CE-4348-8522-64AB5A04C43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7C7F-20D5-45C2-B4DE-FE7B721E170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BD56-3648-487A-A13D-A8802BC0176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52D9-155D-40CB-A058-BEE1DADA5C2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1E4B-44EF-4B85-A2FF-F0A247150DF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3DE6-4BED-4F46-B7A9-9482566FC57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A7A7-56EE-4936-924F-3E6B8AB29E6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8FA4-1871-48B7-8ADD-BE7B6BEEA4A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8292-2CF2-4500-96D2-A2A3C980DFB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030-2215-4199-80D1-2263E7EA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005-91FF-41DF-9ECE-76512DDF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495-2104-4B26-B08E-5869C28C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654-0706-43BC-9BB7-4BFF0349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6CC-EEDB-4D24-AAA1-0543ABFE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B9C7-7C17-49C8-8E54-6FDFA8B3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EB8-3703-4A36-AABA-CDBC9439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640-0C5B-44DD-8405-B0EBE386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EA1-3F1F-40F2-AEFB-8DAC29B1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116-5FA4-4AE6-8C9F-2FEB9158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70D-DF20-4CF0-BB81-16CDB219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1B2-643E-4863-AA6C-A2D243F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3C1D-C431-46B9-8305-10E44569901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F752-8FCE-43D2-93CB-55977DCAF82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ИРУРШ</a:t>
            </a:r>
            <a:r>
              <a:rPr b="1" lang="sr-Latn-CS" sz="4000" spc="-1" strike="noStrike">
                <a:solidFill>
                  <a:srgbClr val="000066"/>
                </a:solidFill>
                <a:latin typeface="Palatino Linotype"/>
              </a:rPr>
              <a:t>K</a:t>
            </a: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И ПОСТУПЦИ У ЦИЉУ ОРТОДОНТСКОГ ЛЕЧЕЊ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25- 27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Вађење зуба из ортодонтских  разлога, корекција дијастеме сталних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зуба, третман неизниклих зуб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42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RS" sz="1000" spc="-1" strike="noStrike">
                <a:solidFill>
                  <a:srgbClr val="000000"/>
                </a:solidFill>
                <a:latin typeface="Palatino Linotype"/>
              </a:rPr>
              <a:t>9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389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1051-C2FE-43EA-982B-CF16E15B8CE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690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44600" y="1647720"/>
            <a:ext cx="819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РЕНЕКТО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абијални френулум је мишићно-фиброзна тракаста творевина прекривена слузокожом, која припаја мимичну мускулатуру горње или доње усне за алвеоларни гребен између централних секути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C:\Users\Zoran\Downloads\oralna hirurgija\slike\images (8).jpg"/>
          <p:cNvPicPr/>
          <p:nvPr/>
        </p:nvPicPr>
        <p:blipFill>
          <a:blip r:embed="rId1"/>
          <a:stretch/>
        </p:blipFill>
        <p:spPr>
          <a:xfrm>
            <a:off x="2481120" y="3433680"/>
            <a:ext cx="38721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E649-2290-4852-886C-E78C5F40B67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1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444600" y="1623960"/>
            <a:ext cx="8181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C:\Users\Zoran\Downloads\oralna hirurgija\slike\download (35).jpg"/>
          <p:cNvPicPr/>
          <p:nvPr/>
        </p:nvPicPr>
        <p:blipFill>
          <a:blip r:embed="rId1"/>
          <a:stretch/>
        </p:blipFill>
        <p:spPr>
          <a:xfrm>
            <a:off x="2608200" y="1803240"/>
            <a:ext cx="402588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B4A0-8D71-497B-A940-989B7108A5D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444600" y="1528920"/>
            <a:ext cx="8265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 за задржаност зуба у вилици могу бити општи и локал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пшт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рахитис, дисфункција ендокриних жлезда, неухрањеност и неки генетски синдроми ( клеидокранијална дистоза, Гролин –Голцов синдром, Гарднеров синдром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Локалн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много су чешћи, нарочито неправилност оклузије и присуство прекобројних зуба, одонтоми, ерупционе цисте, пререани губитак млеч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з обзира на разлог задржаности зуба ,императив модерне стоматологије подразумева хируршки поступак којим се помаже ницање неизниклог зуба, који се првенствено састоји у нуклањању препреке за ницањ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0" y="6424560"/>
            <a:ext cx="4059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C38F-527D-4208-BA41-E12D6CA56EC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33440" y="1636560"/>
            <a:ext cx="8205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ЂЕЊЕ ПРЕКОБРОЈ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прекобројни зуб је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мезиоден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локализован испод или између централних секутића. (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парапремолари, парамолари и дистомолар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C:\Users\Zoran\Downloads\oralna hirurgija\slike\download (33).jpg"/>
          <p:cNvPicPr/>
          <p:nvPr/>
        </p:nvPicPr>
        <p:blipFill>
          <a:blip r:embed="rId1"/>
          <a:stretch/>
        </p:blipFill>
        <p:spPr>
          <a:xfrm>
            <a:off x="1081080" y="3367080"/>
            <a:ext cx="2203560" cy="291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Users\Zoran\Downloads\oralna hirurgija\slike\download (31).jpg"/>
          <p:cNvPicPr/>
          <p:nvPr/>
        </p:nvPicPr>
        <p:blipFill>
          <a:blip r:embed="rId2"/>
          <a:stretch/>
        </p:blipFill>
        <p:spPr>
          <a:xfrm>
            <a:off x="4648320" y="3900600"/>
            <a:ext cx="3355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08DF-9454-4720-9759-EE73FADB7E9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80960" y="211788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прекобројних зуба се састоји у њиховом хируршком уклањању, које треба извршити што пре, док постоји потенцијал ницања стал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 екстракције зуба, неопходно је одредити његов тачан положај у односу на суседне сталне зубе, радиографском методом и клиничким прегле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и поступци су исти као код екстракције импактираних зуба, стим што се прекобројни зуби по правилу лакше в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3D8E-2A4C-4DFA-B1E6-C19CA3DC08A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Users\Zoran\Downloads\oralna hirurgija\slike\images (10).jpg"/>
          <p:cNvPicPr/>
          <p:nvPr/>
        </p:nvPicPr>
        <p:blipFill>
          <a:blip r:embed="rId1"/>
          <a:stretch/>
        </p:blipFill>
        <p:spPr>
          <a:xfrm>
            <a:off x="1895400" y="2030400"/>
            <a:ext cx="51148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7BDF-DCAF-4474-BE7B-F15E6A1F234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20840" y="1697040"/>
            <a:ext cx="820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УКЛАЊАЊЕ ОДОНТ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C:\Users\Zoran\Downloads\oralna hirurgija\slike\download (36).jpg"/>
          <p:cNvPicPr/>
          <p:nvPr/>
        </p:nvPicPr>
        <p:blipFill>
          <a:blip r:embed="rId1"/>
          <a:stretch/>
        </p:blipFill>
        <p:spPr>
          <a:xfrm>
            <a:off x="625320" y="3089160"/>
            <a:ext cx="3910320" cy="237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C:\Users\Zoran\Downloads\oralna hirurgija\slike\images (11).jpg"/>
          <p:cNvPicPr/>
          <p:nvPr/>
        </p:nvPicPr>
        <p:blipFill>
          <a:blip r:embed="rId2"/>
          <a:stretch/>
        </p:blipFill>
        <p:spPr>
          <a:xfrm>
            <a:off x="4906800" y="3097080"/>
            <a:ext cx="35704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D699-BFD2-4177-B313-26344129AFD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51" name="Picture 8" descr="C:\Users\Zoran\Downloads\oralna hirurgija\slike\phoca_thumb_m_1. tiny teeth grouped together, blocking the cuspid to erupt.jpg"/>
          <p:cNvPicPr/>
          <p:nvPr/>
        </p:nvPicPr>
        <p:blipFill>
          <a:blip r:embed="rId1"/>
          <a:stretch/>
        </p:blipFill>
        <p:spPr>
          <a:xfrm>
            <a:off x="679320" y="2279520"/>
            <a:ext cx="2914920" cy="291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:\Users\Zoran\Downloads\oralna hirurgija\slike\phoca_thumb_m_2. surgical removal of compound odontoma and placement of bracket for orthodontic treatment.jpg"/>
          <p:cNvPicPr/>
          <p:nvPr/>
        </p:nvPicPr>
        <p:blipFill>
          <a:blip r:embed="rId2"/>
          <a:stretch/>
        </p:blipFill>
        <p:spPr>
          <a:xfrm>
            <a:off x="4842000" y="2338560"/>
            <a:ext cx="2700360" cy="27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DB87-932E-47EE-95F4-72D1C37C419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клањање сметњи за ницањ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C:\Users\Zoran\Downloads\oralna hirurgija\slike\phoca_thumb_m_3. placement of chain elastic to initially extrude  the cuspid.jpg"/>
          <p:cNvPicPr/>
          <p:nvPr/>
        </p:nvPicPr>
        <p:blipFill>
          <a:blip r:embed="rId1"/>
          <a:stretch/>
        </p:blipFill>
        <p:spPr>
          <a:xfrm>
            <a:off x="1015920" y="2230560"/>
            <a:ext cx="3203640" cy="3205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:\Users\Zoran\Downloads\oralna hirurgija\slike\phoca_thumb_m_5.compound odontoma.jpg"/>
          <p:cNvPicPr/>
          <p:nvPr/>
        </p:nvPicPr>
        <p:blipFill>
          <a:blip r:embed="rId2"/>
          <a:stretch/>
        </p:blipFill>
        <p:spPr>
          <a:xfrm>
            <a:off x="4986360" y="238752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586C-F928-444B-BE7D-133E9C41A96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615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неизниклих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396720" y="2346480"/>
            <a:ext cx="826632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виси првенствено од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појава унилатерална или билатер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 ли је положај клице норма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ком обиму је формиран његов ко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0FE1-6189-4B51-9B78-0EB36467271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57200" y="1720800"/>
            <a:ext cx="8242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у склопу ортодонтског лечења је један од најчешћих видова хируршке терапије, било да се ради о млечним или сталним зуб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није само по себи циљ, већ је основа за почетак рада ортодонта, који увек индивидуално , појединачно за сваког пацијента, одлучује које зубе и када треба вад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ије се препоручивало тзв. системско вађење зуба, што је значило вађење четири истоимена зуба, најчешње првих сталних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је општеприхваћена  тзв. дозирана екстракција зуба, којом се ваде поједини зуби у зависности од локалног нал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616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неизниклих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A520-F0E8-4244-B4B5-D8529F9C08B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57200" y="170820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за примену хируршко-ортодонтског третмана неизниклих зуба треба поставити ако су испуњени следећи услов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лечни зуб је одсутан, а стални заменик се није појавио у зубном низу 6 месеци до 1 године после времена његовог ниц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тг прегледом је утврђено присуство неизниклог сталног зуба који је у релативно повољном положа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зубном низу има довољно простора за смештање стал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4ED9-4D7A-494D-8FCB-2806AEA0F43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55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неизниклих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74" name="Picture 8" descr="C:\Users\Zoran\Downloads\oralna hirurgija\slike\images (10).jpg"/>
          <p:cNvPicPr/>
          <p:nvPr/>
        </p:nvPicPr>
        <p:blipFill>
          <a:blip r:embed="rId1"/>
          <a:stretch/>
        </p:blipFill>
        <p:spPr>
          <a:xfrm>
            <a:off x="2243160" y="2103480"/>
            <a:ext cx="444672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1B0C-E115-4838-AC70-C544BBF42FA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44600" y="1432080"/>
            <a:ext cx="819468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м зуба се ствара простор за ницање неизниклих зуба или померање зуба који се већналазе у зубном лу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дикације за вађење зуба из ортодонтских разлога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ражена тескоба и ускост ви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склад између величина зубних лу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нормална величина и облик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чување симетрије у зубним луковима и усклађивањ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клузалних  одн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каснело ортодонтско лечење фиксним апара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EAF0-BEDC-41F6-BADA-4BB938006A0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33440" y="1407960"/>
            <a:ext cx="8229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 планирању и екстракцији зуба треба познавати неке опште принципе на којима се заснива ортодонтско леч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ично се екстракција планира пре ницања суседних зуба, чиме се ствара празан простор ка ком се усмерава њихово ниц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времено вађење зуба има негативне последице: суседни зуби се померају ка празном простору и ствара се нова малоклу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зијална померања су већа у односу на дистал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о су зуби израсли, израженије је нагињање и то више у горњој  него у доњој вил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спех је сигурнији ако зуби које треба померити у празан простор, немају завршен раст кор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834F-AB44-4298-BF87-9D22FF03ABF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44600" y="1720800"/>
            <a:ext cx="8218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ЂЕЊЕ ПОЈЕДИНИХ СТАЛ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Секутић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се врло ретко ваде. Код анодонције латералног секутића на једној и његове хиподонције на другој страни вади се атипични зуб, чиме се ствара простор за несметано ницање очњака и његово постављање уз централни секути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Очњац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се, такође изузетно ретко ваде, пошто су они врло значајни из функционалних и естетских разлога. Најчешће се ваде ако су ван зубног низа или ако су импактирани у неповољном положају, тако да покушај њиховог исправљања нема много изгледа да буде успешан (круна постављена дистално а корен мезијал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19B3-13E9-4875-951C-C1DA4B7FD7E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0960" y="1407960"/>
            <a:ext cx="8145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Први премолар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најчешће ваде у склопу хируршко- ортодонтског лечења. Ови зуби се углавном ваде када постоји изразита тескоба у фронту ии у пределу премолара, неке аномалије друге класе или бимаксиларна протру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Други премолар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индиковани за вађење уколико се налазе ван зубног лука ( палатинално или лингвално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Први молар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век треба чувати кад је то могуће, јер овај зуб има велики утицај на раст вилице и очување загриж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длуку о екстракцији овог зуба велики утицај има стање клице умњ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Трећи молар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зуб који се често вади, нарочито због недостатка простора у вил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у склопу ортодонтског лечењ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ralna hirurg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6516-E51C-4E35-9533-878F0251586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44600" y="1636560"/>
            <a:ext cx="819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ОФИЛАКТИЧККО ВАЂЕЊЕ КЛИЦА НЕИЗНИКЛИХ УМЊА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( ЖЕРМЕКТОМИЈ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Жермектомија је хируршки метод уклањања клице неизниклог зуба, који се у целости налази у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интервенција је индикована у склопу ортодонтског лечења јер се сматра да ови зуби стварају силу управљену унапред која изазива, или погоршава већ постојећу тескобу зубног н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Рана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жерметомија – пре калцификације круне и коренова, у периоду између 10. и 11. го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Кас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жермектомија – круна зуба је формирана , али пре калцификације корена (мизмеђу 15. и 18. годин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E3B4-C0BD-4A0F-BB7C-6FF92BF1AEF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44600" y="1647720"/>
            <a:ext cx="817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јастема представља повећан простор ( размак ) између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запажа између централних горњих секутића –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ијастема медија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C:\Users\Zoran\Downloads\oralna hirurgija\slike\imagesCA61LY6N.jpg"/>
          <p:cNvPicPr/>
          <p:nvPr/>
        </p:nvPicPr>
        <p:blipFill>
          <a:blip r:embed="rId1"/>
          <a:stretch/>
        </p:blipFill>
        <p:spPr>
          <a:xfrm>
            <a:off x="1136520" y="30495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Users\Zoran\Downloads\oralna hirurgija\slike\download (34).jpg"/>
          <p:cNvPicPr/>
          <p:nvPr/>
        </p:nvPicPr>
        <p:blipFill>
          <a:blip r:embed="rId2"/>
          <a:stretch/>
        </p:blipFill>
        <p:spPr>
          <a:xfrm>
            <a:off x="4649760" y="3149640"/>
            <a:ext cx="35384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F9D7-1DAC-40F9-8E96-56E98ABD0D4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рекција дијастеме стал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02" name="Picture 7" descr="C:\Users\Zoran\Downloads\oralna hirurgija\slike\download (32).jpg"/>
          <p:cNvPicPr/>
          <p:nvPr/>
        </p:nvPicPr>
        <p:blipFill>
          <a:blip r:embed="rId1"/>
          <a:stretch/>
        </p:blipFill>
        <p:spPr>
          <a:xfrm>
            <a:off x="698400" y="2563920"/>
            <a:ext cx="3640320" cy="2411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C:\Users\Zoran\Downloads\oralna hirurgija\slike\download (33).jpg"/>
          <p:cNvPicPr/>
          <p:nvPr/>
        </p:nvPicPr>
        <p:blipFill>
          <a:blip r:embed="rId2"/>
          <a:stretch/>
        </p:blipFill>
        <p:spPr>
          <a:xfrm>
            <a:off x="5688000" y="2452680"/>
            <a:ext cx="2395440" cy="3168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444600" y="1479600"/>
            <a:ext cx="81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к дијастеме може да буде и постојање мезиоден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Каја</dc:creator>
  <dc:description/>
  <dc:language>en-US</dc:language>
  <cp:lastModifiedBy>Korisnik</cp:lastModifiedBy>
  <dcterms:modified xsi:type="dcterms:W3CDTF">2019-09-09T16:39:56Z</dcterms:modified>
  <cp:revision>1557</cp:revision>
  <dc:subject/>
  <dc:title>NAZIV PREDAVANJA</dc:title>
</cp:coreProperties>
</file>